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D5E-F3C3-4CC8-86E5-9E2DF6D7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535-A96C-4D03-B3F7-F241E47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B8C-089D-4132-936F-1BA4C4C3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057-9751-47B8-8D28-00A7A861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658-43EE-4FD7-B69A-71BDE2B9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8E9F-0AEB-4CF5-8CE8-14C31C4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8B1F-31CE-4BCD-8459-010AE4AB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23FF-032D-4EF3-BC30-90E856B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6FA5-7ADC-49D6-B182-994E6572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49A5-9BB1-4D3A-927F-A2005C9D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246-F995-4E5C-9061-4188221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C91-FE51-47FD-8F37-F3C5EF7C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F4B3-8723-4099-BE35-E605F6A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B498-C257-45DD-8E6B-448F2D2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9FE-FCFE-4065-9F87-63B08032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81F8-9E43-4815-98D3-8A8D0C0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F186-9C68-44BA-9CA0-FB0A278B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7482-61B8-428C-A8AD-5FC9231A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7C64-FA1A-48AB-BBC2-6AA77280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8007-5BFC-4D7B-9A88-78B5E58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43D4-9724-4154-9719-C97F304C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AF22-CC0E-47E2-A935-1398A70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07D-709B-4002-938E-DE98E3F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AE2C-D999-4DF3-BABC-F68867C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50B5-3BB7-4692-93D7-298471F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C4E0-47D6-4FBD-A032-E982CE6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68A0-AE8E-4B4C-AC75-A4F9EC5D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6E52-8878-4EF5-8386-5AFF0BD4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1D6E-665F-459A-94D7-C75743A7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B2DB-61CA-4E3B-982F-381AD4B6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413-A158-4A67-8F63-2C158FCB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3FB-F302-4BE6-AE26-DBE13AE6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8C2-6CC3-49AF-9E05-21FDF4FA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CD0-F679-4EF5-8AC5-59F5EC9E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E81-A13C-48A6-8468-83B9503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40C-4E3A-4761-8258-1E0E4384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AFFF-B2FD-444E-AA9F-0D32BE85DD13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F1AC-E23E-4E99-9C0E-B7128093E6E5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160A-1D8E-49B4-9FDF-1EC69B8F24BA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elemmer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241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 – Tevr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 – Jouw bel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1992360000[1]"/>
          <p:cNvPicPr/>
          <p:nvPr/>
        </p:nvPicPr>
        <p:blipFill>
          <a:blip r:embed="rId1"/>
          <a:stretch/>
        </p:blipFill>
        <p:spPr>
          <a:xfrm>
            <a:off x="6929280" y="357120"/>
            <a:ext cx="1689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720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5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83840" y="148572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6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6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6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Samen int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ualiteit is een gave om van te gen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ualiteit vraagt verantwoor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unt elkaar seksueel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imiteit (verder) ontwik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H)erkennen van belemme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Intimiteit is een gave van God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God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– Het Hoog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Intimiteit is een gave van God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f kenm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egeling van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tale over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clusief voor jullie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kom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44" name="Picture 2" descr="man-woman"/>
          <p:cNvPicPr/>
          <p:nvPr/>
        </p:nvPicPr>
        <p:blipFill>
          <a:blip r:embed="rId1"/>
          <a:srcRect l="1817" t="3292" r="2009" b="3557"/>
          <a:stretch/>
        </p:blipFill>
        <p:spPr>
          <a:xfrm>
            <a:off x="738360" y="1406520"/>
            <a:ext cx="67179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iep de 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intimi-)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d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v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MCj04082180000[1]"/>
          <p:cNvPicPr/>
          <p:nvPr/>
        </p:nvPicPr>
        <p:blipFill>
          <a:blip r:embed="rId1"/>
          <a:stretch/>
        </p:blipFill>
        <p:spPr>
          <a:xfrm>
            <a:off x="6929280" y="500040"/>
            <a:ext cx="1541520" cy="1096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5010120" y="1484280"/>
            <a:ext cx="380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mant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ri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– gespreksonderwer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elemmer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4241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umatische erv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oï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versl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gatief zelf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amelijke en psychische prob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MCj01992360000[1]"/>
          <p:cNvPicPr/>
          <p:nvPr/>
        </p:nvPicPr>
        <p:blipFill>
          <a:blip r:embed="rId1"/>
          <a:stretch/>
        </p:blipFill>
        <p:spPr>
          <a:xfrm>
            <a:off x="6929280" y="357120"/>
            <a:ext cx="1689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3:35:48Z</dcterms:modified>
  <cp:revision>58</cp:revision>
  <dc:subject/>
  <dc:title>Hart voor je huwelijk</dc:title>
</cp:coreProperties>
</file>